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2AA8-2ABC-45F4-B7A4-58573AEC0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AC9B-D161-4A94-92F6-3FE33729F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F3A8-13B3-43C3-A6C6-05F6085AE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8671-75D4-4A6E-92A3-AC4E787A6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2B9D-0090-4D4C-A814-63E983FCA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E33A-41C1-4F94-8E01-E0D3D7055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EEEF-0326-4AB2-867F-F0490355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7995-F544-4EE4-9D37-1182E7624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07B-B4A0-426F-8FA9-607F7595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D3F-4864-416C-9098-6F86C261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936-14A1-4D0B-9152-AC10F99C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784-F47B-4A0B-9003-6C790070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7A9D-DF29-40F9-AFCC-97D12729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8273-22BD-4678-8367-E2518AB0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F3AE-B7F0-4E77-B9C5-73435183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2A03-68D0-4DCB-B2E6-8AB4588D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3F8D-41B5-43D3-AF79-A5C4277F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167A-5AB3-4BD4-803B-FFF51500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8189-241C-4C10-A01E-66B3ED82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904-F48C-4552-A3D8-B83C3B57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5ED4-A25A-4BD7-B9E6-688FA27B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E1E2-8934-401F-96C7-8BF8D7A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E797-AFC1-43A9-9B95-3A41B6A9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E4A5-39D6-44D6-BBB9-85540E6C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BE18-4F99-4EDF-B35A-B09A1413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D9F-EA36-46FF-998D-CF0B166B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AAD-DB68-4D74-9816-FBC56FE4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21A-86B5-4E50-8B17-EA6CD0BA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3DF-DD0F-4216-B0B0-14A26011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7D7-A43F-4CF8-A690-1ED5F7E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9FC-FCFE-4BD7-AFB3-B731A398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914-4C8A-4AA9-A1F2-2BC644CA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E04B-262D-4DBD-8771-65AF32CCBEA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ABF2-A055-45F3-B6D5-D448B3F6621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  <a:ea typeface="Tahoma"/>
              </a:rPr>
              <a:t>Introduction to Literature Circles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419076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s. Bouska’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Grade Clas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arrie Martin Elementar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What are Literature Circles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79080" y="1599840"/>
            <a:ext cx="5349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iterature Circles are small reading groups.  Each group consists of 4 or 5 studen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ach group has a book to rea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ooks will be given to your group from Ms. Bouska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What are Literature Circles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ach group reads at its own pac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nce a week, groups get together to talk about what they’re read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How Literature Circles Wor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very week, each group gives itself a reading assignme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n preparation for each week’s Literature Circles meeting, students read their assigned pages/chapt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complete one of five Literature Circles job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Literature Circles Job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7908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iscussion Direct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rites high-level questions to be used for group discussio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ord Find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ocates and defines unknown and/or interesting vocabulary words in the boo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nnect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akes events from the book and connects them to real-life experienc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Literature Circles Job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7908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rites letters to characters in the boo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llustrates scenes from the book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Literature Circles Meeting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7908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tudents find a spot in the classroom to mee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y bring their books and completed job shee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tudents talk about what they read, and they share, one at a time, their job shee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uring meetings, it’s everyone’s job to………talk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2:46:30Z</dcterms:created>
  <dc:creator>Coley</dc:creator>
  <dc:description/>
  <dc:language>en-US</dc:language>
  <cp:lastModifiedBy>bouskaj</cp:lastModifiedBy>
  <dcterms:modified xsi:type="dcterms:W3CDTF">2008-11-13T15:40:38Z</dcterms:modified>
  <cp:revision>75</cp:revision>
  <dc:subject/>
  <dc:title>Literature Circ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